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3E563-CC79-4ADC-9A5B-3B6A9162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0CFAC-19FB-47E2-A33D-B2A9D277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5B30-1225-4706-A438-B0A70F6C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D2222-C797-4BEE-8685-2F6C0299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1A43-B3BF-4819-BB66-CBF524BE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F671-434C-4C1A-A178-92DE000C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7284-796C-43D1-A77E-78CCFD89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2C25-BB06-4362-9DC9-9EC6BB85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10CB-0460-44C1-BC54-B29511CA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AE70-5B44-4377-9E28-5DDEE388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4670-5144-4922-ABCC-54301BD4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71736-D864-4D76-A547-B131A292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3ABF-12AA-4053-B0F6-BF097429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8313-DCB5-4811-A98F-57306DC9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F361-3171-4C77-8333-40F34FDF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AB98-E0BC-442B-890B-2E9F7E44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AE60-233A-4EC9-B9D1-AEF09D83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348E9-BC19-40A8-AA76-58A62B5C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0FF63-5ECB-484D-85A6-AAB3BB91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C03A2-32AF-4622-9188-4BFAB680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1A799-CAA0-4589-9877-FA8B531E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992C3-01B5-4FFB-B497-010AB1BA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75A0D-8720-48AD-91C4-1755321D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1659E-91AB-4A05-B593-F5038204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B35E-EC4E-4090-89B5-16C7336C2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e5e5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209680" indent="-3808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e5e5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209680" indent="-3808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38CA-78E7-49FF-A8A8-BEECBCC9B9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rm-Up (Ch. 3 Review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of the following is a hydrophobic material: paper, table salt, wax, sugar, or past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kind of bonds are broken when water vaporiz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pH of a lake is 4.0, what is the hydrogen ion [H+] concentration of the lake? What is the hydroxide [OH-] concentra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. Diversity of Carb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143000"/>
            <a:ext cx="89154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s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isom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lecules have same molecular formula, but differ in atom arran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different structures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different properties/fun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3352680"/>
          <a:ext cx="9144000" cy="16765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ructural Isom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is-Trans Isom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antiom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aries in covalent arrang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iffer in spatial arrang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irror images of molecu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6553080" y="5105520"/>
            <a:ext cx="2286000" cy="155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2971800" y="5257800"/>
            <a:ext cx="3259080" cy="952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304920" y="5105520"/>
            <a:ext cx="24955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304920"/>
            <a:ext cx="81532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ug manufactur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alidomid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od</a:t>
            </a:r>
            <a:r>
              <a:rPr b="0" lang="ja-JP" sz="2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enantiomer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reduce morning sick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d</a:t>
            </a:r>
            <a:r>
              <a:rPr b="0" lang="ja-JP" sz="2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enantiomer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ause birth de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od</a:t>
            </a:r>
            <a:r>
              <a:rPr b="0" lang="ja-JP" sz="2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onverts to </a:t>
            </a:r>
            <a:r>
              <a:rPr b="0" lang="ja-JP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d</a:t>
            </a:r>
            <a:r>
              <a:rPr b="0" lang="ja-JP" sz="2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patient</a:t>
            </a:r>
            <a:r>
              <a:rPr b="0" lang="ja-JP" sz="28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 b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w used to treat cancers, leprosy, HI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191120" y="3618000"/>
            <a:ext cx="1923840" cy="2971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533520" y="3581280"/>
            <a:ext cx="3375000" cy="3063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6400800" y="3645000"/>
            <a:ext cx="22096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"/>
          <p:cNvSpPr/>
          <p:nvPr/>
        </p:nvSpPr>
        <p:spPr>
          <a:xfrm>
            <a:off x="3808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g. 4.8 The pharmacological importance of enantiom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04_08PharmaEnantiomers-L.jpg"/>
          <p:cNvPicPr/>
          <p:nvPr/>
        </p:nvPicPr>
        <p:blipFill>
          <a:blip r:embed="rId1"/>
          <a:stretch/>
        </p:blipFill>
        <p:spPr>
          <a:xfrm>
            <a:off x="228600" y="1219320"/>
            <a:ext cx="867744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I. Functional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havior of organic molecules depends on functional grou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common functional group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droxy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bony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boxy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min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lfhydry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osph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hy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04_09_aChemicalGroups-L.jpg"/>
          <p:cNvPicPr/>
          <p:nvPr/>
        </p:nvPicPr>
        <p:blipFill>
          <a:blip r:embed="rId1"/>
          <a:stretch/>
        </p:blipFill>
        <p:spPr>
          <a:xfrm>
            <a:off x="990720" y="-6480"/>
            <a:ext cx="71625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04_09_bChemicalGroups-L.jpg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unctional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drawingml/2006/table">
            <a:tbl>
              <a:tblPr/>
              <a:tblGrid>
                <a:gridCol w="1862280"/>
                <a:gridCol w="2371680"/>
                <a:gridCol w="2793960"/>
                <a:gridCol w="2116080"/>
              </a:tblGrid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ctional Gro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lecular Formu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mes &amp; Characterist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aw an Exa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Hydroxy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-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Alcoh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Etha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Carbony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&gt;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Ketones (inside skeleto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Aldehydes (at en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Acet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Propa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Carboxy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-CO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Carboxylic acids (organic acid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Acetic ac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Am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-NH</a:t>
                      </a:r>
                      <a:r>
                        <a:rPr b="0" lang="en-US" sz="1800" spc="-1" strike="noStrike" baseline="-25000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Ami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Glyc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Sulfhydry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-S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Thi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Ethanethi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Phosph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-OPO</a:t>
                      </a:r>
                      <a:r>
                        <a:rPr b="0" lang="en-US" sz="1800" spc="-1" strike="noStrike" baseline="-25000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1800" spc="-1" strike="noStrike" baseline="30000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2- </a:t>
                      </a: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/ -OPO</a:t>
                      </a:r>
                      <a:r>
                        <a:rPr b="0" lang="en-US" sz="1800" spc="-1" strike="noStrike" baseline="-25000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Organic phospha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Glycerol phosph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Methy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-CH</a:t>
                      </a:r>
                      <a:r>
                        <a:rPr b="0" lang="en-US" sz="1800" spc="-1" strike="noStrike" baseline="-25000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Methylated compou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5-methyl cytid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apter 4 Warm-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ck up a copy of the </a:t>
            </a:r>
            <a:r>
              <a:rPr b="0" lang="ja-JP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nctional Groups</a:t>
            </a:r>
            <a:r>
              <a:rPr b="0" lang="ja-JP" sz="32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hart on the back counter.  Use pages 64-65 to fill it o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apter 4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arbon and the Molecular Diversity of Lif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You Must Kno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operties of carbon that make it so importa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. Importance of Carb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Organic chemistr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branch of chemistry that specializes in study of carbon compou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Organic compound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contain Carbon (&amp; H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Major elements of li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CHNO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bon can form large, complex, and diverse molec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2" descr="http://www.chem.purdue.edu/Orgdiv/Images/fuchs.gif"/>
          <p:cNvPicPr/>
          <p:nvPr/>
        </p:nvPicPr>
        <p:blipFill>
          <a:blip r:embed="rId1"/>
          <a:stretch/>
        </p:blipFill>
        <p:spPr>
          <a:xfrm>
            <a:off x="3809880" y="4473720"/>
            <a:ext cx="350532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. Diversity of Carb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has 4 valence electrons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(tetravalenc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can form up to 4 covalent b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frequent bonding partners: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H, O, 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352520" y="2209680"/>
            <a:ext cx="2914560" cy="2541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35308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. Diversity of Carb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nds can be single, double, or triple covalent bo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2" descr="http://chemwiki.ucdavis.edu/@api/deki/files/8564/=image080.png"/>
          <p:cNvPicPr/>
          <p:nvPr/>
        </p:nvPicPr>
        <p:blipFill>
          <a:blip r:embed="rId1"/>
          <a:stretch/>
        </p:blipFill>
        <p:spPr>
          <a:xfrm>
            <a:off x="646200" y="3103560"/>
            <a:ext cx="81198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. Diversity of Carb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bon can form large molec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 classes of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macromolecul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carbohydrates, proteins, lipids, nucleic aci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3" descr="04_06_FatMolecule-L.jpg"/>
          <p:cNvPicPr/>
          <p:nvPr/>
        </p:nvPicPr>
        <p:blipFill>
          <a:blip r:embed="rId1"/>
          <a:stretch/>
        </p:blipFill>
        <p:spPr>
          <a:xfrm>
            <a:off x="1905120" y="3147840"/>
            <a:ext cx="563868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. Diversity of Carb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lecules can be chains, ring-shaped, or branc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3" descr="04_05_CarbonSkeletons-L.jpg"/>
          <p:cNvPicPr/>
          <p:nvPr/>
        </p:nvPicPr>
        <p:blipFill>
          <a:blip r:embed="rId1"/>
          <a:stretch/>
        </p:blipFill>
        <p:spPr>
          <a:xfrm>
            <a:off x="1219320" y="2719440"/>
            <a:ext cx="69530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3:22:27Z</dcterms:created>
  <dc:creator>Chris Nancy Chou</dc:creator>
  <dc:description/>
  <dc:language>en-US</dc:language>
  <cp:lastModifiedBy>local</cp:lastModifiedBy>
  <dcterms:modified xsi:type="dcterms:W3CDTF">2012-09-06T14:35:53Z</dcterms:modified>
  <cp:revision>42</cp:revision>
  <dc:subject/>
  <dc:title>Warm-Up</dc:title>
</cp:coreProperties>
</file>